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645B-07FF-4233-B96A-4A18C36F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6B2C-F375-402F-8CA7-88B27799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0ECC-1B40-4F5A-BC08-3D200A7A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0DC1-DE96-40E7-9692-6EA59B77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F69E-5252-4B0F-991E-7D243022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8262-984C-4510-8B1A-9B9D615F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42EF-D117-41D9-8089-84F03FAB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1C50-6C01-4168-BD58-738AC8D4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7361-8F0D-4FA7-8EE7-F49DB590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A45A-7189-4D38-8ED0-32CE257E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ED7-CD64-4B2F-8F68-89E7BAAC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F6C8-59A3-458E-BC31-CBEEEA9D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AE59-666D-475F-81DE-6232AE9101B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قيادة وشحذ الهم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فرق بين القيادة والادا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E1B8-5FD1-413A-ABC0-490CAE26EC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ن هو القائد التحويلي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طريقة تفكيره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يرى في نفسه شخص له رؤية مستقبلية وصاحب رسالة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انه يعتقد بأن دورة هو نقل الناس من حوله نقلة حضاري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لدية أهداف عالية ومعايير مرتفعة وهذا يجعله يتمتع باحترام الآخرين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لدية ثقة ذاتية عالية وإصرار ذاتي عالى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يقدم حلول جذرية لتابعيه وأحيانا حلول جذرية متطرفة لمشاكله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عندما يتكلم يتصل بعيون تابعية ويجعله يمارس التنويم المغناطيسي عليهم ويستطيع أن يعبر عن مشاعر تابعية أفضل منهم انفسه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جاذبية شخصية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risma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 وقدرة الهامية ويمكن أن تفسر أحيانا بالأنانية. يستفيد القائد من قوته ومركزة في عيون تابعية حيث يحبه الآخرون ويتبعوه . اذا كانت الجاذبية الشخصية موجهة لتحقيق أهداف المجموعة= قدرة الهامي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ان ثقة التابعين بالمدير نابعة من المعنى الذي يعطيه القائد لحاجات تابعي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يستثير فكر تابعية لتقديم أهداف وأفكار جديد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يعطي اهتمام عال لكل الناس ويعطي رعاية خاصة على المستوى الفردي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يرقى برغبات تابعية. فإذا تحدث التابعين عن حاجاتهم الفسيولوجية فانه يدعوهم للتفكير بحاجاتهم الاجتماعي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يحقق دافعية أقوى عند التابعين وأداء أكب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A083-FDE8-44DF-BCEB-B11CF6B7B8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خصائص القائد التحويل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نظر القائد الى نفسه على أنه وكيل تغيير والتغيير في نظرة رحلة وليست نقطة وصو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شجاع محب للمخاطر المحسوب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ؤمن بقيمة الناس، ليس دكتاتورا، يعزز الموظف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وجه بالقيم الأخلاقية، يخلق حضارة الانجا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تعلم طول العمر وينظر الى الخطأ على أنه تجربة استفاد من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قادر على التعامل مع الغموض والمواقف المعقد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صاحب رؤية وقادر على ترجمتها للآخرين ليشاركوة ف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B75-A344-4013-B974-3EFE8CA9D7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هام القائد التحويلي المرتبطة بإدارة التغيي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دراك الحاجه للتغيي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صياغة الرؤية والرسال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ختيار نموذج التغيير ومسارات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كوين الاستراتيجية الجديد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عبئة الالتزام من خلال حضارة المنظم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دارة الفترة الانتقال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A0F-217D-4D3A-86B3-A4EC4CDA83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نمية القيادة الإدار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هناك اجماعا بين الكتاب حول النقص الحاد في القيادة الإدارية، وخللا في تعليم القادة وتدريبه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نقط الضعف في برامج التدريب للقادة: حسب جيمس بولت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تدريب غير متكامل. يفترض أن يركز على الأبعاد الثلاثة: الفنية ، الإنسانية، الأخلاقية. لكن التركيز على البعد الفني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تدريب سريع من خلال برامج قصيرة، تكوين القادة عملية مستمرة وطويلة الأج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تدريب متقادم يركز على القضايا التي تخص القرن ال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يركز التدريب على المهارات الإدارية التقليدية. يجب أن يركز على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الظروف السوقية الحالية في طل التغيرات العالمي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الفعالية الشخصية والمهارات الجديدة المطلوبة للامتي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تنمية الثقة الذاتية اللازمة لإدارة المنظم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C937-EE14-455D-B2CC-800C5547FC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ما يجب أن تشمله برامج اعداد القادة للقرن ال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رؤية والرسا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بناء حضارة الانجاز وتكوين المنظمة التي تتعل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كوين الاستراتيجية والتحليل الرباعي والتميز التنافسي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بناء الهيكلة التنظيم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إعادة الهندس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ختيار وتدريب وتحفيز وتمكين الموارد البشر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غيير الذاتي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هي الموضوعات التي تقترح التركيز عليها في برامج اعداد قادة القرن ال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C3DF-2473-4F3D-9ACF-751AC45055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فرق بين القيادة والإدار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فرق ماكنزي بين القيادة والإدار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خصص القيادة لعنصر الناس، تهيئة الموظفين والإشراف عليهم ورقابته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خصص الادارة للتفكير في الأشياء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جعل ماكنزي صناعة القرارات عا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حسب الهواري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المدير يفعل الأشياء بطريقة صوا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قائد يفعل الأشياء الصوا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9F3A-4A48-48F3-90EB-18B19373ED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فرق بين القيادة والإدار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حسب كوت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187280" y="2421000"/>
          <a:ext cx="7415280" cy="3902040"/>
        </p:xfrm>
        <a:graphic>
          <a:graphicData uri="http://schemas.openxmlformats.org/drawingml/2006/table">
            <a:tbl>
              <a:tblPr/>
              <a:tblGrid>
                <a:gridCol w="2471760"/>
                <a:gridCol w="3362400"/>
                <a:gridCol w="1581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قياد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ادار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ناص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تحديد الاتجاه: تنمية رؤية مستقبلية بعيد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التخطيط والموازنات: وضع الخطوات التنفيذية والبرامج الزمن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قاط الاهتم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توجيه البشر: الاتصال بالكلمة والفعل للتأثير وخلق روح الفري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تنظيم وتهيئة الموارد البشرية: الهيكل التنظيمي- السلطة والمسئولية، التفويض والسياسات والإجراء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نمية الشبكة الادارية اللاز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التحفيز والإلهام: اشباع حاجاتهم الانسان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الرقابة وحل المشكلات: المتابعة التفصيلية للتنفيذ وتحديد الانحرافات من أجل التصحي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نفي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حقق تغييرات أحيانا جوهرية مثل سلع جديدة يريدها المستهلك، علاقات طيب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أن يحقق قدرا من النظام لتحقيق النتائج المتوقع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خ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5FE6-BBA0-4CD1-856A-8003B1DACF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مدير والقائد حسب الهواري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1981080"/>
          <a:ext cx="7772400" cy="45324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قائ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دي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ف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ضع الرؤ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عبئ الطاقات ويبني روح الفري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حفز معنوي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تعامل مع البش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دير بالمعاني والآمال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بحث عن الجد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انفعالي مليء بالمشاع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يشرك المرؤوسين في اتخاذ القرار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محفز ذاتي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نف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خط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نظم ويحدد الاختصاص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كافي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تعامل مع النظم والأشيا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دير باللوائ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دير بالسوابق والمأل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موضوعي منضب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تخذ القرارات وربما يشرح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محفز من خارجة: تحفيز مصطن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28B-05F1-4A06-B9B3-6992017068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صفوفة القيادة/الادارة : لجون كوت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ائد قوي ومدير قوي                   قائد قوي ومدير ضعي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الرؤية منفصلة عن الواق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توجية الأفراد الى هدف دون تنظي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الاستراتيجيات ينقصها التخطيط الرسمي      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قياد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ائد ضعيف ومدير قو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تتجه العمليات نحو البيروقراط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التخصص الزائد              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ائد ضعيف ومدير ضعي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مزيد من السياسات والإجراء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نظم الرقابة تصطدم بالابتكا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ادا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544500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187280" y="2276280"/>
            <a:ext cx="0" cy="29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AE6-424F-4D59-9632-628A4BF777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ساليب القيادة التبادلية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يستخدم اسلوب التدعيم الشرطي ويقبل المرؤوسين بذلك. اذا فعلت كذا تأخذ مكافأة كذا أو تتجنب عقاب كذ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للتدعيم المشروط مزايا حسب الدراسات السابق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رفع أداء المرؤوسي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تحسين الرضا الوظيف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تخفيض مخاطر الدور الوظيف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أسلوب المدير التبادل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يوضح العمل المطلوب من المرؤوسي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وهذا يبني ثقة عن المرؤوسين لمعرفتهم المسبقة بالمطلوب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يعترف بحاجات المرؤوسين ويبين كيفية اشباع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هذه الترتيبات تشجع المرؤوسين على القيام بالنتائج المتوقعة منه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C07C-8E89-47E7-927E-68ECCA53DA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ساليب القيادة التبادلية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أساليب المدير التبادلي بين الايجابية والسلب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أولا: الأساليب الايجابية وتشمل أسلوبين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إدارة بالاستثناء: يتم التدخل عندما تسوء الأحوال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جزاء الشرطي: المكافأة مرتبطة بتحقيق الأهداف، اعطاء التسهيلات اللازمة للمرؤوس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ثانيا:الأساليب السلبية وتشمل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دعيم السلبي المشرو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ع الأمور تجري كما تجري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3A28-C36C-4529-B70E-4537FE8468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سباب عدم فعالية القيادة التبادل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نقص مهارة القائد في استخدام نظم التدعيم الايجا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نظم تقييم للأداء غير سلي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غير قادر على تقديم الحوافز الايجابية للمرؤوسين بسبب محدودية الموارد أو لخضوعها لقواعد خارجة عن سلطت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ضغوط العمل قد لا تسمح بالتقييم الجيد أو التطبيق الايجابي للشرو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ستخدام نظم التدعيم السلبي غير فعالة على المدى البعي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D375-C6B6-4BF3-8195-86E06873CE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ضرورة توفر نوع جديد من القاد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نحن نحتاج الى قيادة من نوع جديد تناسب الواقع الجديد. قيادة تقبل التغيير وتتأقلم حسب الواق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ن القيادة التي تحب التغيير هي القيادة التحويل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ن أهم ما يميز قادة منظمة القرن ال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أنهم يحبون التغيي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6CB3-150D-4CD5-837F-CE57B3020E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rayah</cp:lastModifiedBy>
  <dcterms:modified xsi:type="dcterms:W3CDTF">2006-10-27T21:16:24Z</dcterms:modified>
  <cp:revision>28</cp:revision>
  <dc:subject/>
  <dc:title>PowerPoint Presentation</dc:title>
</cp:coreProperties>
</file>